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59C1-BFED-4F62-A2F7-2082080D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B8AA-D5C9-4C9D-B129-9808A197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C242-1881-4F79-B5F9-BCF40F92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CB15-F77D-4BDD-AC67-E8461375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2696-26B9-4D4C-8189-D1E85829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4187-B8B9-46FF-B29F-4BCE86D6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B58B-91A3-4EA8-88C6-20CA827F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FB07-72DD-43EF-8627-26065765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36CB-C78E-44E2-A801-D58ED9B0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5A51-D6A6-4521-B400-C098C674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10A7-5CFF-43DD-B692-119EFDA1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B2B8-A849-45E0-A644-39D36513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4B64-B356-4678-8B6F-F031D80A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C348-BF80-4693-B9A7-72C26E03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F93D-9336-4D5B-8206-9C86965B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964D-F9DB-4DBD-8FE2-60780EF03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F614-0F02-4F38-9B0A-82F95F8AB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AD71-60CE-4826-B77A-F60613A3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EC35-8A9A-456C-8183-65A5039A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BB08-97D8-479C-8F79-D0840384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8C8C-9836-47EC-AE76-4766CFA2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902D-1E38-4188-8059-953E3F66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071C-4ADA-4046-9E83-88588379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1A4B-597F-4E71-BD38-DE3CD716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BCA5-98D0-4489-BC0A-A21D1740989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9F22-634B-4B88-B383-D3A8397A087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990720"/>
            <a:ext cx="7086600" cy="8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152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  <a:ea typeface="Arial"/>
              </a:rPr>
              <a:t>VBA-Makros für PowerPoint 2000 </a:t>
            </a:r>
            <a:r>
              <a:rPr b="0" lang="en-US" sz="1200" spc="-1" strike="noStrike" baseline="30000">
                <a:solidFill>
                  <a:srgbClr val="40458c"/>
                </a:solidFill>
                <a:latin typeface="Arial"/>
                <a:ea typeface="Arial"/>
              </a:rPr>
              <a:t>© 2000, Ralf Nebel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762120" y="1752480"/>
            <a:ext cx="6037200" cy="1838520"/>
            <a:chOff x="762120" y="1752480"/>
            <a:chExt cx="6037200" cy="1838520"/>
          </a:xfrm>
        </p:grpSpPr>
        <p:grpSp>
          <p:nvGrpSpPr>
            <p:cNvPr id="209" name=""/>
            <p:cNvGrpSpPr/>
            <p:nvPr/>
          </p:nvGrpSpPr>
          <p:grpSpPr>
            <a:xfrm>
              <a:off x="766800" y="1757520"/>
              <a:ext cx="6027840" cy="1828800"/>
              <a:chOff x="766800" y="1757520"/>
              <a:chExt cx="6027840" cy="1828800"/>
            </a:xfrm>
          </p:grpSpPr>
          <p:grpSp>
            <p:nvGrpSpPr>
              <p:cNvPr id="210" name=""/>
              <p:cNvGrpSpPr/>
              <p:nvPr/>
            </p:nvGrpSpPr>
            <p:grpSpPr>
              <a:xfrm>
                <a:off x="766800" y="1757520"/>
                <a:ext cx="6027840" cy="609480"/>
                <a:chOff x="766800" y="1757520"/>
                <a:chExt cx="6027840" cy="6094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766800" y="1757520"/>
                  <a:ext cx="6027840" cy="6094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2" name=""/>
                <p:cNvGrpSpPr/>
                <p:nvPr/>
              </p:nvGrpSpPr>
              <p:grpSpPr>
                <a:xfrm>
                  <a:off x="766800" y="1757520"/>
                  <a:ext cx="6027840" cy="609480"/>
                  <a:chOff x="766800" y="1757520"/>
                  <a:chExt cx="6027840" cy="6094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811080" y="1757520"/>
                    <a:ext cx="5938920" cy="609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MAKRO</a:t>
                    </a:r>
                    <a:endParaRPr b="0" lang="en-US" sz="1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766800" y="1757520"/>
                    <a:ext cx="6027840" cy="609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5" name=""/>
              <p:cNvGrpSpPr/>
              <p:nvPr/>
            </p:nvGrpSpPr>
            <p:grpSpPr>
              <a:xfrm>
                <a:off x="766800" y="2367000"/>
                <a:ext cx="1844640" cy="1219320"/>
                <a:chOff x="766800" y="2367000"/>
                <a:chExt cx="1844640" cy="121932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811080" y="2367000"/>
                  <a:ext cx="175608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XLBlattEinfügen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66800" y="2367000"/>
                  <a:ext cx="184464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2611440" y="2367000"/>
                <a:ext cx="4183200" cy="1219320"/>
                <a:chOff x="2611440" y="2367000"/>
                <a:chExt cx="4183200" cy="121932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656080" y="2367000"/>
                  <a:ext cx="409392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40458c"/>
                      </a:solidFill>
                      <a:latin typeface="Arial"/>
                      <a:ea typeface="Arial"/>
                    </a:rPr>
                    <a:t>Fügt ein Arbeitsmappenblatt (Diagramm oder Tabelle) aus einer per Dialogfeld wählbaren XLS-Datei als neue Folie ein.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40458c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40458c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40458c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611440" y="2367000"/>
                  <a:ext cx="418320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1" name=""/>
            <p:cNvSpPr/>
            <p:nvPr/>
          </p:nvSpPr>
          <p:spPr>
            <a:xfrm>
              <a:off x="762120" y="1752480"/>
              <a:ext cx="6037200" cy="1838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5257800" y="312408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Arial"/>
              </a:rPr>
              <a:t>Makro starte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06:57:01Z</dcterms:created>
  <dc:creator>Ralf Nebelo</dc:creator>
  <dc:description/>
  <dc:language>en-US</dc:language>
  <cp:lastModifiedBy>Ralf Nebelo</cp:lastModifiedBy>
  <dcterms:modified xsi:type="dcterms:W3CDTF">2000-04-04T12:30:56Z</dcterms:modified>
  <cp:revision>41</cp:revision>
  <dc:subject/>
  <dc:title>PowerPoint-Präsentation</dc:title>
</cp:coreProperties>
</file>